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11E-A075-47BE-959A-0A2DC401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493-57A8-4B0F-8848-7E0E171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D36-50F7-4D47-93D5-E0DEDC82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A13-5C2F-4618-9A9E-D86A7DC6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548-CD97-4F10-B4C6-6E31551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885-6735-4B8E-AFCA-93A303A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EA6-41ED-461E-A2CD-4597109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FBE-3999-4CF8-9CB5-F4C0E81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047-B053-42D3-8AF8-8A7DD967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E52-247B-4427-8D9E-4330459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029-A4C8-44F6-B155-3CB4905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09F-6B93-4BAA-8799-A25C3297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0F2-E11C-41C8-8E83-C3433F9F3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83944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.Many people who saw the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ilm were </a:t>
            </a:r>
            <a:r>
              <a:rPr b="1" i="1" lang="zh-CN" sz="2400" spc="-1" strike="noStrike">
                <a:solidFill>
                  <a:srgbClr val="fc3000"/>
                </a:solidFill>
                <a:latin typeface="Times New Roman"/>
              </a:rPr>
              <a:t>afrai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to swim in the se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rai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用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sb/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to do sth/of 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doing sth  /  be afraid +tha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m afra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1911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1. He seldom stands on the river bank because he is afraid that he might fall into th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2. I’m afraid I can’t agree with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21:12Z</dcterms:created>
  <dc:creator>user</dc:creator>
  <dc:description/>
  <dc:language>en-US</dc:language>
  <cp:lastModifiedBy>user</cp:lastModifiedBy>
  <dcterms:modified xsi:type="dcterms:W3CDTF">2003-09-18T02:21:28Z</dcterms:modified>
  <cp:revision>1</cp:revision>
  <dc:subject/>
  <dc:title>PowerPoint 演示文稿</dc:title>
</cp:coreProperties>
</file>